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wmf" ContentType="image/x-wmf"/>
  <Override PartName="/ppt/media/image9.jpeg" ContentType="image/jpe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263600" y="692280"/>
            <a:ext cx="795816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187280" cy="11253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6443640" y="6308640"/>
            <a:ext cx="235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冶金与材料工程学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256,11,&#24187;&#28783;&#29255; 11" TargetMode="External"/><Relationship Id="rId3" Type="http://schemas.openxmlformats.org/officeDocument/2006/relationships/hyperlink" Target="256,12,&#24187;&#28783;&#29255; 12" TargetMode="External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84360" y="2276640"/>
            <a:ext cx="8286480" cy="1523880"/>
          </a:xfrm>
          <a:custGeom>
            <a:avLst/>
            <a:gdLst>
              <a:gd name="textAreaLeft" fmla="*/ 1035720 w 8286480"/>
              <a:gd name="textAreaRight" fmla="*/ 7250760 w 8286480"/>
              <a:gd name="textAreaTop" fmla="*/ 183960 h 1523880"/>
              <a:gd name="textAreaBottom" fmla="*/ 152424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4725" y="0"/>
                </a:lnTo>
                <a:arcTo wR="675" hR="653" stAng="16200000" swAng="5400000"/>
                <a:lnTo>
                  <a:pt x="5400" y="2610"/>
                </a:lnTo>
                <a:lnTo>
                  <a:pt x="16200" y="2610"/>
                </a:lnTo>
                <a:lnTo>
                  <a:pt x="16200" y="653"/>
                </a:lnTo>
                <a:arcTo wR="675" hR="653" stAng="10800000" swAng="5400000"/>
                <a:lnTo>
                  <a:pt x="21600" y="0"/>
                </a:lnTo>
                <a:lnTo>
                  <a:pt x="18900" y="9495"/>
                </a:lnTo>
                <a:lnTo>
                  <a:pt x="21600" y="18990"/>
                </a:lnTo>
                <a:lnTo>
                  <a:pt x="18900" y="18990"/>
                </a:lnTo>
                <a:lnTo>
                  <a:pt x="18900" y="20948"/>
                </a:lnTo>
                <a:arcTo wR="675" hR="653" stAng="0" swAng="5400000"/>
                <a:lnTo>
                  <a:pt x="3375" y="21600"/>
                </a:lnTo>
                <a:arcTo wR="675" hR="653" stAng="5400000" swAng="5400000"/>
                <a:lnTo>
                  <a:pt x="2700" y="18990"/>
                </a:lnTo>
                <a:lnTo>
                  <a:pt x="0" y="18990"/>
                </a:lnTo>
                <a:lnTo>
                  <a:pt x="2700" y="9495"/>
                </a:lnTo>
                <a:close/>
              </a:path>
              <a:path fill="none" w="21600" h="21600">
                <a:moveTo>
                  <a:pt x="5400" y="653"/>
                </a:moveTo>
                <a:arcTo wR="675" hR="653" stAng="0" swAng="5400000"/>
                <a:lnTo>
                  <a:pt x="3375" y="1305"/>
                </a:lnTo>
                <a:arcTo wR="675" hR="653" stAng="16200000" swAng="-5400000"/>
                <a:arcTo wR="675" hR="653" stAng="10800000" swAng="-5400000"/>
                <a:lnTo>
                  <a:pt x="5400" y="2610"/>
                </a:lnTo>
              </a:path>
              <a:path fill="none" w="21600" h="21600">
                <a:moveTo>
                  <a:pt x="16200" y="653"/>
                </a:moveTo>
                <a:arcTo wR="675" hR="653" stAng="10800000" swAng="-5400000"/>
                <a:lnTo>
                  <a:pt x="18225" y="1305"/>
                </a:lnTo>
                <a:arcTo wR="675" hR="653" stAng="16200000" swAng="5400000"/>
                <a:arcTo wR="675" hR="653" stAng="0" swAng="5400000"/>
                <a:lnTo>
                  <a:pt x="16200" y="2610"/>
                </a:lnTo>
              </a:path>
              <a:path fill="none" w="21600" h="21600">
                <a:moveTo>
                  <a:pt x="2700" y="1958"/>
                </a:moveTo>
                <a:lnTo>
                  <a:pt x="2700" y="18990"/>
                </a:lnTo>
              </a:path>
              <a:path fill="none" w="21600" h="21600">
                <a:moveTo>
                  <a:pt x="18900" y="1958"/>
                </a:moveTo>
                <a:lnTo>
                  <a:pt x="18900" y="18990"/>
                </a:lnTo>
              </a:path>
            </a:pathLst>
          </a:custGeom>
          <a:solidFill>
            <a:srgbClr val="ff66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第五章 烧结生产工艺及设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1125360"/>
            <a:ext cx="91440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12880" indent="-812880"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原料准备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：原料接受、贮存及中和混匀 ；熔剂燃料破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配料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：按烧结矿化学成分和工艺要求确定燃料、熔剂、返矿的配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混合－制粒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：混匀，制成制粒小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布料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：在台车上布放铺底料、烧结混合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点火、保温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：用点火器点燃料层中燃料，并使表面保温一段时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烧结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：抽风烧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热破碎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：烧结机机尾卸出烧结矿，用单辊破碎机破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冷却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：冷却至不烧皮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破碎、整粒、筛分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：分出成品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5~50m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、铺底料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10~20mm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返矿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-5m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成品性能检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：化学成分，粒度，转鼓强度，筛分指数及其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7" dur="20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8" dur="2000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5892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原料接受、储存和中和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处在沿海并主要使用进口原料的大型烧结厂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其所需原料用大型专用货船运输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有专门的卸料的</a:t>
            </a:r>
            <a:r>
              <a:rPr b="0" lang="zh-CN" sz="2400" spc="-1" strike="noStrike" u="sng">
                <a:solidFill>
                  <a:srgbClr val="336699"/>
                </a:solidFill>
                <a:uFillTx/>
                <a:latin typeface="楷体_GB2312"/>
                <a:ea typeface="楷体_GB2312"/>
                <a:hlinkClick r:id="rId2"/>
              </a:rPr>
              <a:t>码头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和大型高效的</a:t>
            </a:r>
            <a:r>
              <a:rPr b="0" lang="zh-CN" sz="2400" spc="-1" strike="noStrike" u="sng">
                <a:solidFill>
                  <a:srgbClr val="336699"/>
                </a:solidFill>
                <a:uFillTx/>
                <a:latin typeface="楷体_GB2312"/>
                <a:ea typeface="楷体_GB2312"/>
                <a:hlinkClick r:id="rId3"/>
              </a:rPr>
              <a:t>卸料机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卸下的原料直接由皮带机运至原料场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距选矿厂较远的内陆大型烧结厂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可采用火车运输或者货船运输。可采用翻车机接受精矿、富矿粉和块状石灰石等原料。生石灰可采用密封罐车或风动运输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辅料可用受料槽接收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8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8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8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8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中型烧结厂（年产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00~20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万吨烧结矿），可采用接受与贮存合用的原料仓库，采用火车或者货车运输。如原料数量品种较多时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可采用受料槽接受数量少和易起灰的原料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小型烧结厂（年产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万吨的以下的）。对原料的接受可因地制宜，采用简便形式，采用火车或货车：如用电动手扶拉铲和地沟胶带机联合卸车，电耙造堆，原料棚贮存；或设适当形式的容积配料槽，以解决原料接受和贮存问题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684360" y="4762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00"/>
                </a:solidFill>
                <a:latin typeface="Arial"/>
                <a:ea typeface="楷体_GB2312"/>
              </a:rPr>
              <a:t>宝钢原料码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324000" y="1890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00"/>
                </a:solidFill>
                <a:latin typeface="Arial"/>
                <a:ea typeface="楷体_GB2312"/>
              </a:rPr>
              <a:t>卸船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24000" y="1890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6600"/>
                </a:solidFill>
                <a:latin typeface="Arial"/>
                <a:ea typeface="隶书"/>
              </a:rPr>
              <a:t>堆料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332000" y="124920"/>
            <a:ext cx="8300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章  主要内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"/>
          <p:cNvSpPr/>
          <p:nvPr/>
        </p:nvSpPr>
        <p:spPr>
          <a:xfrm>
            <a:off x="1660680" y="722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2050920" y="981000"/>
            <a:ext cx="4724280" cy="685800"/>
            <a:chOff x="2050920" y="981000"/>
            <a:chExt cx="4724280" cy="685800"/>
          </a:xfrm>
        </p:grpSpPr>
        <p:sp>
          <p:nvSpPr>
            <p:cNvPr id="46" name=""/>
            <p:cNvSpPr/>
            <p:nvPr/>
          </p:nvSpPr>
          <p:spPr>
            <a:xfrm>
              <a:off x="2431800" y="110016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c0000"/>
                </a:gs>
                <a:gs pos="100000">
                  <a:srgbClr val="f3c8c8"/>
                </a:gs>
              </a:gsLst>
              <a:lin ang="10800000"/>
            </a:gra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050920" y="981000"/>
              <a:ext cx="685800" cy="685800"/>
            </a:xfrm>
            <a:prstGeom prst="diamond">
              <a:avLst/>
            </a:prstGeom>
            <a:solidFill>
              <a:srgbClr val="cc0000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660400" y="115560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烧结原料的准备和处理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206800" y="10792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2050920" y="1700280"/>
            <a:ext cx="4724280" cy="685800"/>
            <a:chOff x="2050920" y="1700280"/>
            <a:chExt cx="4724280" cy="685800"/>
          </a:xfrm>
        </p:grpSpPr>
        <p:sp>
          <p:nvSpPr>
            <p:cNvPr id="51" name=""/>
            <p:cNvSpPr/>
            <p:nvPr/>
          </p:nvSpPr>
          <p:spPr>
            <a:xfrm>
              <a:off x="2431800" y="181944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a3b2c1"/>
                </a:gs>
                <a:gs pos="100000">
                  <a:srgbClr val="eaedf0"/>
                </a:gs>
              </a:gsLst>
              <a:lin ang="10800000"/>
            </a:gra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050920" y="1700280"/>
              <a:ext cx="685800" cy="685800"/>
            </a:xfrm>
            <a:prstGeom prst="diamond">
              <a:avLst/>
            </a:prstGeom>
            <a:solidFill>
              <a:srgbClr val="a3b2c1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660400" y="187488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烧结配料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206800" y="17985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2050920" y="2492280"/>
            <a:ext cx="4724280" cy="685800"/>
            <a:chOff x="2050920" y="2492280"/>
            <a:chExt cx="4724280" cy="685800"/>
          </a:xfrm>
        </p:grpSpPr>
        <p:sp>
          <p:nvSpPr>
            <p:cNvPr id="56" name=""/>
            <p:cNvSpPr/>
            <p:nvPr/>
          </p:nvSpPr>
          <p:spPr>
            <a:xfrm>
              <a:off x="2431800" y="261144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336699"/>
                </a:gs>
                <a:gs pos="100000">
                  <a:srgbClr val="d2dde8"/>
                </a:gs>
              </a:gsLst>
              <a:lin ang="10800000"/>
            </a:gra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050920" y="2492280"/>
              <a:ext cx="685800" cy="685800"/>
            </a:xfrm>
            <a:prstGeom prst="diamond">
              <a:avLst/>
            </a:prstGeom>
            <a:solidFill>
              <a:srgbClr val="336699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660400" y="266688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混合料制备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06800" y="25905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081160" y="3284640"/>
            <a:ext cx="4724280" cy="685800"/>
            <a:chOff x="2081160" y="3284640"/>
            <a:chExt cx="4724280" cy="685800"/>
          </a:xfrm>
        </p:grpSpPr>
        <p:sp>
          <p:nvSpPr>
            <p:cNvPr id="61" name=""/>
            <p:cNvSpPr/>
            <p:nvPr/>
          </p:nvSpPr>
          <p:spPr>
            <a:xfrm>
              <a:off x="2462040" y="340380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3366"/>
                </a:gs>
                <a:gs pos="100000">
                  <a:srgbClr val="c8d2dd"/>
                </a:gs>
              </a:gsLst>
              <a:lin ang="10800000"/>
            </a:gra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081160" y="3284640"/>
              <a:ext cx="685800" cy="685800"/>
            </a:xfrm>
            <a:prstGeom prst="diamond">
              <a:avLst/>
            </a:prstGeom>
            <a:solidFill>
              <a:srgbClr val="003366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690640" y="345924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烧结操作制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237040" y="33829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2050920" y="4105440"/>
            <a:ext cx="4724280" cy="685800"/>
            <a:chOff x="2050920" y="4105440"/>
            <a:chExt cx="4724280" cy="685800"/>
          </a:xfrm>
        </p:grpSpPr>
        <p:sp>
          <p:nvSpPr>
            <p:cNvPr id="66" name=""/>
            <p:cNvSpPr/>
            <p:nvPr/>
          </p:nvSpPr>
          <p:spPr>
            <a:xfrm>
              <a:off x="2431800" y="422460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c0000"/>
                </a:gs>
                <a:gs pos="100000">
                  <a:srgbClr val="f3c8c8"/>
                </a:gs>
              </a:gsLst>
              <a:lin ang="10800000"/>
            </a:gra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050920" y="4105440"/>
              <a:ext cx="685800" cy="685800"/>
            </a:xfrm>
            <a:prstGeom prst="diamond">
              <a:avLst/>
            </a:prstGeom>
            <a:solidFill>
              <a:srgbClr val="cc0000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660400" y="428004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烧结矿的处理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206800" y="42037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2050920" y="4927680"/>
            <a:ext cx="4724280" cy="685800"/>
            <a:chOff x="2050920" y="4927680"/>
            <a:chExt cx="4724280" cy="685800"/>
          </a:xfrm>
        </p:grpSpPr>
        <p:sp>
          <p:nvSpPr>
            <p:cNvPr id="71" name=""/>
            <p:cNvSpPr/>
            <p:nvPr/>
          </p:nvSpPr>
          <p:spPr>
            <a:xfrm>
              <a:off x="2431800" y="504684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a3b2c1"/>
                </a:gs>
                <a:gs pos="100000">
                  <a:srgbClr val="eaedf0"/>
                </a:gs>
              </a:gsLst>
              <a:lin ang="10800000"/>
            </a:gra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050920" y="4927680"/>
              <a:ext cx="685800" cy="685800"/>
            </a:xfrm>
            <a:prstGeom prst="diamond">
              <a:avLst/>
            </a:prstGeom>
            <a:solidFill>
              <a:srgbClr val="a3b2c1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660400" y="510228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烧结工艺的进步和烧结新技术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206800" y="50259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2017800" y="5562720"/>
            <a:ext cx="4724280" cy="685800"/>
            <a:chOff x="2017800" y="5562720"/>
            <a:chExt cx="4724280" cy="685800"/>
          </a:xfrm>
        </p:grpSpPr>
        <p:sp>
          <p:nvSpPr>
            <p:cNvPr id="76" name=""/>
            <p:cNvSpPr/>
            <p:nvPr/>
          </p:nvSpPr>
          <p:spPr>
            <a:xfrm>
              <a:off x="2398680" y="568188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336699"/>
                </a:gs>
                <a:gs pos="100000">
                  <a:srgbClr val="d2dde8"/>
                </a:gs>
              </a:gsLst>
              <a:lin ang="10800000"/>
            </a:gra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017800" y="5562720"/>
              <a:ext cx="685800" cy="685800"/>
            </a:xfrm>
            <a:prstGeom prst="diamond">
              <a:avLst/>
            </a:prstGeom>
            <a:solidFill>
              <a:srgbClr val="336699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627280" y="5737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烧结厂主要工艺设备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173680" y="56610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964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重    点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烧结生产工艺流程及各工序的主要环节控制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39640" y="2707920"/>
            <a:ext cx="8229600" cy="25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基本要求</a:t>
            </a:r>
            <a:r>
              <a:rPr b="1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掌握烧结生产工艺过程</a:t>
            </a:r>
            <a:r>
              <a:rPr b="1" lang="en-US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烧结设备有基本的了解</a:t>
            </a:r>
            <a:r>
              <a:rPr b="1" lang="en-US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755640" y="1483920"/>
            <a:ext cx="754704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操作方针</a:t>
            </a:r>
            <a:r>
              <a:rPr b="1" lang="en-US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精心备料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稳定水碳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减少漏风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低碳厚料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烧透筛尽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403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烧结工艺流程图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1835280" y="907920"/>
            <a:ext cx="5689440" cy="510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755640" y="981000"/>
            <a:ext cx="8136000" cy="516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666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-17640" y="0"/>
            <a:ext cx="93427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1T11:28:54Z</dcterms:created>
  <dc:creator>xyj</dc:creator>
  <dc:description/>
  <dc:language>en-US</dc:language>
  <cp:lastModifiedBy>xyj</cp:lastModifiedBy>
  <dcterms:modified xsi:type="dcterms:W3CDTF">2014-08-26T02:53:02Z</dcterms:modified>
  <cp:revision>221</cp:revision>
  <dc:subject/>
  <dc:title>炼铁原料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42</vt:lpwstr>
  </property>
</Properties>
</file>