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63600" y="69228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8728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43640" y="630864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冶金与材料工程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2.3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配料计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方法简易理论计算法和现场经验计算法。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配料计算方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经验配料法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特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       ② 误差大（经验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配料比（根据原料种类和化学成分、烧结矿化学成分指标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铁矿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%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生石灰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%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灰石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云石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%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粉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7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2060640"/>
                <a:ext cx="271764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32000" y="2063880"/>
                <a:ext cx="2703600" cy="22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Q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40360" y="2062080"/>
                <a:ext cx="2664000" cy="22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ΣQ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r>
                                    <m:t xml:space="preserve">S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烧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ΔO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O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9</m:t>
                                  </m:r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eO</m:t>
                                      </m:r>
                                    </m:e>
                                    <m:sub>
                                      <m:r>
                                        <m:t xml:space="preserve">烧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烧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Σ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r>
                                        <m:t xml:space="preserve">⋅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eO</m:t>
                                      </m:r>
                                    </m:e>
                                  </m:d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配比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/(x+y+z+m+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配比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/(x+y+z+m+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配比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/(x+y+z+m+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配比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/(x+y+z+m+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配比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/(x+y+z+m+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计算烧结矿化学成分的计算结果。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7200" y="692280"/>
            <a:ext cx="5299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    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矿产量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易法，即不考虑在烧结过程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eO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中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g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种原料的烧损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种原料的含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eO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24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979640" y="1341360"/>
                <a:ext cx="2913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烧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烧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752480" y="2362320"/>
                <a:ext cx="2764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Q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9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g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O</m:t>
                                </m:r>
                              </m:e>
                              <m:sub>
                                <m:r>
                                  <m:t xml:space="preserve">烧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9862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28800" y="2971800"/>
                <a:ext cx="41133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Fe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Σ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烧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,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1860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28800" y="3276720"/>
                <a:ext cx="359568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烧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,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371600" y="3505320"/>
            <a:ext cx="3902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矿化学成分预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e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i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O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gO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l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29040" y="3681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720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63640" y="4437000"/>
          <a:ext cx="3456000" cy="54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437000"/>
                    <a:ext cx="34560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624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5084640"/>
          <a:ext cx="2883240" cy="4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5084640"/>
                    <a:ext cx="2883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246040" y="5661000"/>
            <a:ext cx="42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eO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烧结过程氧化还原反应有关，所以不能简单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14920" y="22716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烧结矿化学成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混合料制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3.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的目的与要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的：使各组分分布均匀，以利烧结并保证烧结矿成分的均一稳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中采用的有一段混合和两段混合，有的还有三段混合。大中型烧结厂均采用两段混合和三段混合流程。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段混合主要是加水润湿、混匀，使混合料的水分、粒度和料中各组分均匀分布；当使用热返矿时，可以将物料预热；当加生石灰时，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混合除继续混匀外，主要作用是制粒，还可通蒸汽补充预热，提高混合料温度；三次混合主要进行外裹煤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64008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筒混合制粒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Verdana"/>
                <a:ea typeface="华文行楷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.1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混合与制粒的目的与要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5638680" cy="35481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 anchorCtr="1">
            <a:normAutofit fontScale="97000"/>
          </a:bodyPr>
          <a:p>
            <a:pPr marL="788400" indent="-7884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的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33280" indent="-6757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133280" indent="-6757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133280" indent="-6757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热混合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788400" indent="-7884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33280" indent="-6757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成分均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133280" indent="-6757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良好的透气性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133280" indent="-6757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止过湿的能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3.2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混匀与制粒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原料性质的影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料的粘结性、粒度和密度都影响混合与制粒效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粘结性和亲水性强的物料易于制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难于混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褐铁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赤铁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铁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度差别大的物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混合时易产生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于混匀和制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粒度相同的情况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棱角和形状不规则的物料比圆滑的物料易于制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水量和加水方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混合料的适宜水分值与原料亲水性、粒度及孔隙率的大小有关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磁铁矿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~1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铁矿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~12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褐铁矿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~28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混合料粒度小，又配加高炉灰、生石灰时，水分可大一些，反之则应偏低一些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分波动控制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验证（烧结矿化学成分化验结果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整 （上一个班的生产情况、现在的生产情况、再估计一个配料比进行验算，再进行调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准（当验算结果与烧结矿质量指标相符合，确定为最终的配料比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机加水必须均匀，注意将水直接喷在料面上，如喷在混合料壁或筒底上，将造成混合料水分不均匀，且筒壁粘料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水方式由柱状改为雾化加水，加大加水面积，有利于均匀加水，有利于母球长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水方法：应尽早往烧结料加水的原则，使物料的内部充分润湿，增加内部水分，这对成球有利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矿打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制粒考虑，宜在返矿皮带上打水，使高温返矿不直接进入一次混合机，使返矿得到充分润湿，为制粒创造了良好条件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在返矿进入一次混合机的漏斗前打水，返矿的热量能得到较充分利用，有利于提高混合料温度，劳动条件比前者要好。但因返矿温度降低和润湿程度均较差，混合料成球后，会引起水分剧烈蒸发而使小球破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混合机加水：润湿，接近于造球的适宜水分，为二次混合机造球做准备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混合机加水，补加水分一般不超过总水量的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混合机进料端加水，并力求均匀稳定，将水直接喷在料面上，以利于更好成球，避免圆筒内壁粘料，破坏料的运动轨迹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返矿质量与数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矿粒度较粗，具有疏松多孔的结构，可成为混合料的造球核心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筒混合机工艺参数。主要工艺参数如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机的倾角：一次混合的倾角应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，用于二次混合的倾角应不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机的转速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界转速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/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1/2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/m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混合机转速为临界转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混合机转速为临界转速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混合机的长度与制粒时间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倾角一定，混合机加长，混合时间就延长，对混匀和制粒有利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次混合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~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二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-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混合制粒时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5~3.5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次混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二次混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~2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混合机的填充系数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充系数是指圆筒混合机内物料所占圆筒体积的百分率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一次混合机的充填率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左右，二次混合比一次混合的充填率要低些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混合时间不变，而填充系数增大时，可提高混合机的产量，但由于料层增厚，物料运动受到限制和破坏，因而对混匀制粒不利；填充系数过小，不仅生产率低，而且物料间相互作用小，对制粒也不利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延长混合造球时间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寻求高效率的混合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添加水分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预先制粒法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添加粘结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采用磁化水润湿混合料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01440" y="120600"/>
            <a:ext cx="32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3.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化混匀与制粒的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3.4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混匀效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052640"/>
            <a:ext cx="7777440" cy="504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2880" indent="-81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匀效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混匀效率愈接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明混合效果愈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η=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最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最小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最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料均匀系数的最大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最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料均匀系数的最小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匀系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C                      (5—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个测试项目在所取试样中的含量，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一测试项目在此试样的平均含量，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均匀系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平均均匀系数，愈接近零，混匀效果愈好；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∑(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)+∑(1-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)/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试样均匀系数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试样均匀系数大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4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料要求与方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布铺底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度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烧结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厚度：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蓖条不过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少篦条消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止篦条粘料，减轻清理篦条的劳动强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滤层作用，防止细粒级物料进入抽风系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篦条透气性（不粘料，少堵塞），改善气流分布（篦条完好，不容易形成风洞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18900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操作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布混合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844640"/>
            <a:ext cx="7983360" cy="3960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行楷"/>
              </a:rPr>
              <a:t>要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台车高度方向料面平整，合理的偏析：自上而下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逐层降低，粒度逐层增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料层厚度方向则要求在同一料层中的混合料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、粒度和水分保持均匀分布，不产生偏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69696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证布到台车上的物料具有一定的松散性，防止产生堆积和紧压，整个料层具有良好的透气性。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简单理论配料计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特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  ② 快  ③ 适用于少量原料种类（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步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生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矿需要的各种原料用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 kg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 kg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灰石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kg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炉灰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kg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粉（或煤）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k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料的烧残率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700360" y="5300640"/>
                <a:ext cx="2951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.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火操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参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温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~1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之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装置保温炉并通废气保温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减少表层烧结矿因急冷而使强度下降的不利因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时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为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温时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~2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燃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用气体燃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用天然气或者重油和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燃料需要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=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60JvB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=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需要量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t/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装置  可分为点火炉、点火保温炉、预热炉。目前新型点火炉配合使用的烧嘴有线式烧嘴、面式烧嘴和多缝式烧嘴及双斜式烧嘴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.3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过程的判断和调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点火温度的判断和调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温度过高，料层表面过熔，呈现气泡，风箱负压升高，总烟道废气量减少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温度低，料层表面呈棕褐色或有花痕，出现浮灰，烧结矿强度变坏，返矿量增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正常的特征：料层表面呈黑亮色，成品层表面已熔结成坚实的烧结矿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煤气发热值基本稳定条件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温度的调节是通过改变煤气空气配比来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温度主要取决于煤气发热值和煤气空气比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焦炉煤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: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煤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    视煤气成分而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煤气空气比合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器燃烧火焰呈黄白亮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     气   过    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暗红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煤     气   过   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混合料水分和碳含量的判断与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料水分过大：圆辊布料机下料不畅，料层会自动减薄，料面出现鳞片状；点火时火焰发暗，外喷，料面有黑斑，负压升高；机尾烧结矿层断面红火层变暗，烧不透，强度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分过小：点火火焰同样外喷，且料面出现浮灰，总管负压也升高，机尾断面出现“花脸”，烧不透，烧结矿疏散，返矿高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过多：点火器后表层发红的台车数增多，即使点火温度正常，料面也会过熔发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少：点火器处料发暗，很快变黑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火温度正常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表层有部分熔化，但结不成块，一捅即碎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尾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多时，红层变厚发亮，冒蓝色火苗，烧结矿成薄壁结构，返矿少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过少时，红层薄且发暗，断面疏松，烧结矿气孔小，灰尘大，返矿多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表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多时，机尾段风箱废气温度升高，总管负压、终点温度都升高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烧少时，废气温度下降，负压变化则不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烧结终点的判断与控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尾末端三个风箱及总管的废气温度、负压水平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总管废气温度降低，负压升高，倒数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#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#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箱废气温度降低，最后一个风箱温度升高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风箱废气温度及负压均升高，则表示终点延后；反之，总管温度升高，负压下降，倒数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#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#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箱温度下降，三个风箱的负压都下降，表明终点提前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水、碳适量时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点火火焰能顺利抽入料层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台车离开点火器后，表层红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#-5#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箱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机尾矿层断面整齐，结构均匀，无夹生料，红色层约占断面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台车卸矿顺利，不粘料，矿块强度好，粉末少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层厚度稳定时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箱及总管废气温度、负压只在很窄的范围内波动，烧结终点稳定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从机尾矿层判断面看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点正常时，燃烧层已抵达铺底料，无火苗冒出，上面黑色和红色矿层各约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点提前时，黑色层变厚，红矿层变薄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点延后则相反，且红层下沿冒火苗，还有未烧透的生料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成品和返矿的残碳看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点正常时，两者残碳都低而稳定；终点延后，则残碳升高，以至超出规定指标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平衡方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平衡方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95280" y="2852640"/>
                <a:ext cx="8352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01480" y="3933720"/>
                <a:ext cx="81028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烧结终点控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水、碳变化很大影响作业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混料和配料岗位联系，对水分和燃料量进行调整。同时考虑滞后过程，可临时采用调节料层厚度、点火温度和机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终点控制是在保证料层不变的前提下，主要通过控制机速来实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点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加快机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点滞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慢机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速调节控制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m/min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速调整间隔时间大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烧结机尾台车上卸下的烧结矿块度较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~500mm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粒度很不均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块中还夹杂着粉末或生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0~80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便运输储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满足高炉冶炼的要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需将其冷却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将大块破碎、粉末筛除，使粒度适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189000"/>
            <a:ext cx="4572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矿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5432400" cy="5184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4365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Times New Roman"/>
                <a:ea typeface="宋体"/>
              </a:rPr>
              <a:t>、整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2174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5.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矿处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3040" y="259920"/>
            <a:ext cx="77709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6.1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矿的破碎筛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7432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破碎设备：剪切式单辊破碎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优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破碎过程中的粉化程度小，成品率高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结构简单、可靠，使用维修方便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75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破碎能耗低</a:t>
            </a:r>
            <a:r>
              <a:rPr b="1" lang="zh-CN" sz="27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热振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543800" cy="46231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筛分设备：热矿振动筛（热振筛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点：可减少冷却、冷却除尘；整粒系统负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23880" indent="-61416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冷却料层的透气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23880" indent="-61416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获得热返矿预热混合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缺点：目前设备事故多，影响烧结作业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23880" indent="-614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大：热振筛与热返矿的链板运输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23880" indent="-614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机机尾扬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状：新设计烧结厂，取消热振筛为设计主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精矿为主体原料的烧结厂，保留热振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1341360"/>
            <a:ext cx="7699320" cy="3888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目的  ：适宜高炉的大型化的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于整粒，以改善高炉炉料的透气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矿可用胶带机运输和上料，延长转运设备的使用寿命，改善总图运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高炉上料系统使用条件，提高炉顶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冷却通过整粒便于分出粒度适宜的铺底料，实现较为理想的铺底料工艺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2680" y="189000"/>
            <a:ext cx="48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矿冷却的目的和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却方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34920" y="1197000"/>
            <a:ext cx="5040360" cy="5184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方式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风冷却→ 设计主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抽风冷却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96320" indent="-79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设备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上冷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式冷却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式冷却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96320" indent="-79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原则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能耗低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余热利用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污染要小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于检修和操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5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地面积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冷却方式比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8885160" cy="5402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冷却设备比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33520" y="1600200"/>
            <a:ext cx="7848360" cy="2895120"/>
            <a:chOff x="533520" y="1600200"/>
            <a:chExt cx="7848360" cy="2895120"/>
          </a:xfrm>
        </p:grpSpPr>
        <p:grpSp>
          <p:nvGrpSpPr>
            <p:cNvPr id="166" name=""/>
            <p:cNvGrpSpPr/>
            <p:nvPr/>
          </p:nvGrpSpPr>
          <p:grpSpPr>
            <a:xfrm>
              <a:off x="535680" y="1606320"/>
              <a:ext cx="7842960" cy="2882160"/>
              <a:chOff x="535680" y="1606320"/>
              <a:chExt cx="7842960" cy="28821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535680" y="1606320"/>
                <a:ext cx="388800" cy="960480"/>
                <a:chOff x="535680" y="1606320"/>
                <a:chExt cx="388800" cy="9604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69880" y="1606320"/>
                  <a:ext cx="32040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ffffff"/>
                      </a:solidFill>
                      <a:latin typeface="Times New Roman"/>
                      <a:ea typeface="楷体_GB2312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5680" y="1606320"/>
                  <a:ext cx="38880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924480" y="1606320"/>
                <a:ext cx="2332440" cy="960480"/>
                <a:chOff x="924480" y="1606320"/>
                <a:chExt cx="2332440" cy="9604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958680" y="1606320"/>
                  <a:ext cx="226404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机上冷却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924480" y="1606320"/>
                  <a:ext cx="233244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256920" y="1606320"/>
                <a:ext cx="3017880" cy="960480"/>
                <a:chOff x="3256920" y="1606320"/>
                <a:chExt cx="3017880" cy="9604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291120" y="1606320"/>
                  <a:ext cx="294948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带式冷却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256920" y="1606320"/>
                  <a:ext cx="30178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275160" y="1606320"/>
                <a:ext cx="2103480" cy="960480"/>
                <a:chOff x="6275160" y="1606320"/>
                <a:chExt cx="2103480" cy="9604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309360" y="1606320"/>
                  <a:ext cx="203508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环式冷却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275160" y="1606320"/>
                  <a:ext cx="21034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35680" y="2567160"/>
                <a:ext cx="388800" cy="960480"/>
                <a:chOff x="535680" y="2567160"/>
                <a:chExt cx="388800" cy="9604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69880" y="2567160"/>
                  <a:ext cx="32040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优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5680" y="2567160"/>
                  <a:ext cx="38880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924480" y="2567160"/>
                <a:ext cx="2332440" cy="960480"/>
                <a:chOff x="924480" y="2567160"/>
                <a:chExt cx="2332440" cy="9604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958680" y="2567160"/>
                  <a:ext cx="226404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设备紧凑、破碎机低温工作、无热矿系统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924480" y="2567160"/>
                  <a:ext cx="233244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256920" y="2567160"/>
                <a:ext cx="3017880" cy="960480"/>
                <a:chOff x="3256920" y="2567160"/>
                <a:chExt cx="3017880" cy="9604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291120" y="2567160"/>
                  <a:ext cx="294948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工艺布置方便、布料均匀、蓖条不易堵塞、密封结构简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256920" y="2567160"/>
                  <a:ext cx="30178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275160" y="2567160"/>
                <a:ext cx="2103480" cy="960480"/>
                <a:chOff x="6275160" y="2567160"/>
                <a:chExt cx="2103480" cy="9604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309360" y="2567160"/>
                  <a:ext cx="203508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设备总重比带式冷却少、台车利用率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275160" y="2567160"/>
                  <a:ext cx="21034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35680" y="3528000"/>
                <a:ext cx="388800" cy="960480"/>
                <a:chOff x="535680" y="3528000"/>
                <a:chExt cx="388800" cy="9604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69880" y="3528000"/>
                  <a:ext cx="32040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缺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5680" y="3528000"/>
                  <a:ext cx="38880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24480" y="3528000"/>
                <a:ext cx="2332440" cy="960480"/>
                <a:chOff x="924480" y="3528000"/>
                <a:chExt cx="2332440" cy="960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958680" y="3528000"/>
                  <a:ext cx="226404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工艺控制有难度、电耗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24480" y="3528000"/>
                  <a:ext cx="233244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256920" y="3528000"/>
                <a:ext cx="3017880" cy="960480"/>
                <a:chOff x="3256920" y="3528000"/>
                <a:chExt cx="3017880" cy="9604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291120" y="3528000"/>
                  <a:ext cx="294948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台车多半空载运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256920" y="3528000"/>
                  <a:ext cx="30178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275160" y="3528000"/>
                <a:ext cx="2103480" cy="960480"/>
                <a:chOff x="6275160" y="3528000"/>
                <a:chExt cx="2103480" cy="9604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309360" y="3528000"/>
                  <a:ext cx="203508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ffffff"/>
                      </a:solidFill>
                      <a:latin typeface="Times New Roman"/>
                      <a:ea typeface="楷体_GB2312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75160" y="3528000"/>
                  <a:ext cx="21034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33520" y="1600200"/>
              <a:ext cx="7848360" cy="2895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工艺角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加快冷却速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省设备投资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烧结生产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要保证烧结矿强度不受影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可能减少粉化现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介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风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速度太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周期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地面积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条件恶劣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采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强度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率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本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因急冷使强度大大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其对熔剂性烧结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水产生粉化的情况更严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难于筛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碱度平衡方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42920" y="1989000"/>
                <a:ext cx="72741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O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4000" y="3284640"/>
                <a:ext cx="8604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eO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烧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O</m:t>
                                </m:r>
                              </m:e>
                              <m:sub>
                                <m:r>
                                  <m:t xml:space="preserve">烧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11280" y="4221000"/>
                <a:ext cx="4968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e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前采用强制风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有三种传热方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导（烧结矿内部）、对流和辐射（烧结矿表面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.15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3040" y="-36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烧结矿冷却的因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33720" y="1796760"/>
            <a:ext cx="5030640" cy="3260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烧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层厚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矿块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却时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7840" y="189000"/>
            <a:ext cx="7705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5.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矿的整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3816360" cy="30956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备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台固定筛，一台齿面对辊破碎机，两台振动筛，由皮带连接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果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达到整粒和分出铺底料的目的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底料粒度偏细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3810240" cy="3759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385680" y="580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简单整粒流程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5091480"/>
            <a:ext cx="57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优点：流程较简单，烧结矿运转次数少，设备费用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总图布置合理；维修方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缺点：铺底料粒度范围宽；成品矿产率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典流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4681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破四筛（图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主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334120" y="1413000"/>
            <a:ext cx="3809880" cy="376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69400" y="3497760"/>
            <a:ext cx="34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优点：能够较合理地控制烧结矿的上下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铺底料粒度，成品粉末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检修方便；总图布置整齐，筛分效率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缺点：流程投资高；烧结矿运转次数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50840" y="-4132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烧结工艺的进步及烧结新技术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精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适量进口富矿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优化烧结原料结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稳定原料化学成分和粒度组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选择优质燃料和熔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料中和混匀与配矿自动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料层透气性，采用厚料层烧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匀烧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温烧结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风烧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球烧结与球团烧结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层布料、双碱度烧结和双球烧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烧结矿粒度组成的措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.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低烧结矿低温还原粉化率的措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熔剂的破碎与筛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38512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80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闭路流程（图５－４）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0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一段破碎与检查筛分组成闭路流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0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预先筛分与破碎组成闭路流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0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当给矿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 mm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含量较多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才使用预先筛分流程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0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破碎设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5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锤式破碎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5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击式破碎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2385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99040" cy="3673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508720" y="566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-4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闭路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3040" y="18864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燃料破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6000" y="1604880"/>
            <a:ext cx="381636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路流程（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696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度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可采用一段四辊破碎机开路流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696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度大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应考虑两段开路破碎流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696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用煤作为燃料，为防止过粉碎，可采用预先筛分的破碎流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碎设备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般采用对辊、四辊破碎机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605480" y="1511280"/>
            <a:ext cx="4309920" cy="3525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580000" y="530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5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路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25560" y="1052640"/>
            <a:ext cx="821844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锤式破碎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碎石灰石、白云石、菱镁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主要有产量高、破碎比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~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大给矿粒度可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mm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产量的电耗小，维护比较容易等优点。但是工作部分磨损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蓖条易堵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物料水分要求严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噪声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扬尘量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锤式破碎机结构见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0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靠冲击、打击和部分挤压作用将物料破碎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类：可逆式和不可逆式破碎机，普遍采用可逆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8160" y="18900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7.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熔剂和燃料的破碎筛分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平衡方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氧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eO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加）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403280" y="2708280"/>
                <a:ext cx="5545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124000" y="3789360"/>
                <a:ext cx="2521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烧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O</m:t>
                                </m:r>
                              </m:e>
                              <m:sub>
                                <m:r>
                                  <m:t xml:space="preserve">烧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9640" y="46774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失氧（烧结矿失重）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76720" y="5229360"/>
                <a:ext cx="4032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Σ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破碎机规格、转速等条件一定的情况下，其产量、质量主要受下列因素的影响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料含水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水分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4%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然易堵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矿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矿量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产品电耗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电动机功率允许范围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锤头与箅条间的距离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距愈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产品粒度愈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产量愈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距愈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产品中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级的含量愈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距保持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反击式破碎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叫冲击式破碎机，主要靠冲击方式破碎。在烧结中燃料破碎。结构见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结构简单，破碎比很大（一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生产率高，单位产品电耗小，可进行选择性破碎，适应性强，对中硬性、脆性和潮湿的物料均可破碎，维护方便。但板锤磨损严重，寿命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四辊破碎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燃料破碎用，当燃料粒度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可一次破碎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，不需筛分，可实行开路破碎。结构图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结构简单、操作维护方便，辊间距离可调，过粉碎现象少。但破碎比小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当给料粒度大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须用对辊（或反击式、锤式）破碎机预先粗碎，否则，上辊咬不住大块，不仅加剧对辊批的磨损，还使产量降低；辊皮磨损严重，且磨损不均匀，影响产品粒度的均匀性和稳定性，须定期调整和车削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筛分设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用闭路流程，基本采用自定中心振动筛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响筛分效率的因素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矿量多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大给矿量，筛下产品绝对量增加，但筛分效率相应降低，一般筛分效率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%~70%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筛孔大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筛面尺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筛面倾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分高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%-2.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配料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料仓的结构形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储存精矿、消石灰、用燃料等湿度较高物料，应采用倾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的圆锥形金属结构料仓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储存石灰石粉、生石灰、干熄焦粉、返矿和高炉灰等较干燥的物料，可采用倾角不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的圆锥形金属结构或半金属结构料仓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2125440" y="120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7.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配料和混料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储存粘性大的物料，如精矿和粘性大的粉矿等，可采用三段的圆锥形金属结构活动料仓，并在仓壁设置振动器。或者在料仓壁上设辉绿岩铸石板或通压缩空气等，对排料有一定效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907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仓数量、容积与储料时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决于烧结所用原料的品种和含铁原料的准备情况，与料仓容积有关，服务于原料储存时间的要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粉矿为主，料仓数量相对较少，可以使用大料仓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含铁料仓不少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熔剂和燃料仓各不少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石灰仓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矿仓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杂料，如高炉灰、轧钢皮等，可视具体情况预留适当仓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储料时间：一般各种原料均不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料在料仓中的排列顺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虑配料和环境保护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顺序：精矿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矿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灰石（白云石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石灰（消石灰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杂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矿（最前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盘给料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常见的配料设备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合于各种含铁原料、石灰石（白云石）、燃料、返矿等细粒物料的配料，给矿粒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-50m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简单、给料均匀、易于调整、维护和管理方便等优点。但给料的准确性受物料粒度、水分及料柱高度波动的影响较大，且套筒下缘和圆盘磨损较严重，需加强管理维护。结构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14-2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771640" y="2276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隶书"/>
              </a:rPr>
              <a:t>配料室的圆盘给料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95280" y="1844640"/>
                <a:ext cx="38894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O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211640" y="1773360"/>
                <a:ext cx="3168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55640" y="2637000"/>
                <a:ext cx="756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y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55640" y="3284640"/>
                <a:ext cx="7416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O</m:t>
                        </m:r>
                      </m:e>
                      <m:sub>
                        <m:r>
                          <m:t xml:space="preserve">烧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000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O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3933720"/>
                <a:ext cx="7848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</m:t>
                                  </m:r>
                                </m:e>
                                <m:sub>
                                  <m:r>
                                    <m:t xml:space="preserve">烧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aO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O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aO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O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aO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O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O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aO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O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aO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eO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eO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eO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O</m:t>
                                  </m:r>
                                </m:e>
                                <m:sub>
                                  <m:r>
                                    <m:t xml:space="preserve">烧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0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eO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eO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8360" y="4581360"/>
                <a:ext cx="8136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Δ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Δ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Δ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筒混料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烧结混料设备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造和工作原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钢板焊接的回转筒体和转动装置组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圆筒被带动旋转时，借助离心力的作用，将物料带到一定高度，当料的重力超过离心力时，物料则瀑布式地向下抛落，同时沿着筒体倾斜的方向逐步向出料端移动。与此同时，通过给水管向物料喷水，物料被润湿。如此重复一定时间，物料不断混匀，并滚动成具有一定强度和大小的球粒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隶书"/>
              </a:rPr>
              <a:t>圆筒混合制粒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工艺参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料机转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界转速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/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r/m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混合机转速为临界转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混合机转速为临界转速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时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料在圆筒混合机中的停留时间（混合时间、制粒时间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/(0.105R·n·t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(5-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中 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筒混合机半径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筒混合机转速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筒混合机安装角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混合时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in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二次混合时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华文行楷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机填充系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混合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-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二次混合或合并型混合机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-1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Qt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V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Qt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料的给料量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机的体积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料的堆积密度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/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筒混合机的布置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采用两段混合，一次混合和二次混合。一般都设置在地面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7.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带式烧结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烧结机本体、风箱与密封装置、布料器及点火器等部分组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烧结机本体结构。包括轨道、台车和传动装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形轨道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尾部弯道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尾部星轮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车。由若干台车置于环道上构成的封闭链带。台车由车体、拦板、滚轮、箅条、滑板等组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抽风与密封装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抽风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封装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箱滑板与台车滑板间的密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尾风箱端部与台车底面之间的密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布料设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烧结底料简单，在铺底料仓底部设有扇形闸门，由此闸门排出的铺底料，通过其下的摆动漏斗布于烧结机台车上。铺底料的厚度由设在漏斗排料口的平板闸门调节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辊布料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梭式布料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点火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7.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抽风及除尘设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除尘设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烟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旋风除尘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管除尘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除尘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污水处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抽风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9640" y="2349360"/>
                <a:ext cx="8151840" cy="25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  <a:ea typeface="楷体_GB2312"/>
              </a:rPr>
              <a:t>作业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响混合料制粒的因素有哪些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风冷却和抽风冷却有什么区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上冷却、带式冷却机、环式冷却机各有什么优缺点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振筛有什么优缺点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已知烧结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Fe=58%,R=1.8,FeO=9%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炉灰用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kg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烟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5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焦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kg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精矿选中其中的任意一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料选择其中的任意一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未知原料用量和配比以及烧结矿化学成分以及配料皮带上料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两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m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系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t/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h)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%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料皮带速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m/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本章小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主要内容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烧结生产工艺流程、烧结配料、烧结料的混合与制粒、混合料烧结、烧结矿的处理、烧结厂主要工艺设备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难      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烧结生产工艺流程及各工序的主要环节控制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基本要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熟练掌握烧结生产工艺过程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000000"/>
              </a:solidFill>
              <a:latin typeface="Verdana"/>
              <a:ea typeface="楷体_GB2312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2108160" y="78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08160" y="78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7920360" cy="2637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42920" y="407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95640" y="1268280"/>
                <a:ext cx="2282760" cy="39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1:28:54Z</dcterms:created>
  <dc:creator>xyj</dc:creator>
  <dc:description/>
  <dc:language>en-US</dc:language>
  <cp:lastModifiedBy>xyj</cp:lastModifiedBy>
  <dcterms:modified xsi:type="dcterms:W3CDTF">2014-08-26T02:56:20Z</dcterms:modified>
  <cp:revision>221</cp:revision>
  <dc:subject/>
  <dc:title>炼铁原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